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697-8714-4B3B-A5A8-2FA3E66F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816D-D8ED-45B3-A7AC-84924656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8E0-08EE-46DD-A579-CDB61469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B8C-8EDD-44DC-A80C-C250D5A8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9CC04-A190-4126-B3F2-FF3E495D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E65F-558D-4223-A4E9-E9849153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0ED7-F3A9-4C42-9883-D27A898F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6FE0-ACE8-4429-8549-3C881EE8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A876-D717-41CF-BFB2-8334F9D0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2778-991D-4835-895A-D0C3A1E2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9F77-CE60-4837-8F4C-4615E151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6470-E9DF-4106-9D28-3D3811C7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16A1-910B-454D-A19E-C8E39139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2E32-4DF7-4E7E-B932-721D688E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0C7B-375C-407E-8D7C-9AFAED6A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8332-80EF-4018-8720-A88BFC0B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5B26-CBF6-443E-A5F2-24DB1EAA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F9A-BF03-40C3-A56B-6CA54130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2FE8-2C19-4001-A79E-60FAD722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CA8-8427-4F91-8B8B-3F6935DD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9AF-3298-4546-B566-0175E1CB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326-85BC-4701-8C02-DAE8AD5D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C697-392F-4794-9707-53272F2A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8067-806A-4F58-A780-B2A0434E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6f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86f2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7FEC-062C-4B33-9D39-E65BFDC630E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6f2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4497-86FF-41AD-8531-18C643E2774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cs.ohio-state.edu/hcs300/glossary/glossary.htm" TargetMode="External"/><Relationship Id="rId2" Type="http://schemas.openxmlformats.org/officeDocument/2006/relationships/hyperlink" Target="http://classroom.jc-schools.net/sci-units/plants-animals.htm" TargetMode="External"/><Relationship Id="rId3" Type="http://schemas.openxmlformats.org/officeDocument/2006/relationships/hyperlink" Target="http://www.urbanext.uiuc.edu/gpe/case1/facts.html" TargetMode="External"/><Relationship Id="rId4" Type="http://schemas.openxmlformats.org/officeDocument/2006/relationships/hyperlink" Target="http://www.firstschoolyears.com/science/worksheets/plants/plants.html" TargetMode="External"/><Relationship Id="rId5" Type="http://schemas.openxmlformats.org/officeDocument/2006/relationships/hyperlink" Target="http://www.naturegrid.org.uk/plant/parts.html" TargetMode="External"/><Relationship Id="rId6" Type="http://schemas.openxmlformats.org/officeDocument/2006/relationships/hyperlink" Target="http://www.hhmi.org/coolscience/vegquiz/plantparts.html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</a:rPr>
              <a:t>Parts of a Plant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rade 3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Picture 4" descr="cflowery6"/>
          <p:cNvPicPr/>
          <p:nvPr/>
        </p:nvPicPr>
        <p:blipFill>
          <a:blip r:embed="rId1"/>
          <a:stretch/>
        </p:blipFill>
        <p:spPr>
          <a:xfrm>
            <a:off x="7315200" y="1219320"/>
            <a:ext cx="1828800" cy="37558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makes food for the plant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leaves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above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above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stem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is usually colore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is usually colore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petal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more practice go to: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hcs.ohio-state.edu/hcs300/glossary/glossary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classroom.jc-schools.net/sci-units/plants-animals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urbanext.uiuc.edu/gpe/case1/fac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firstschoolyears.com/science/worksheets/plants/plants.html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(go to label the pla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ttp://www.naturegrid.org.uk/plant/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http://www.hhmi.org/coolscience/vegquiz/plant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4" descr="fern"/>
          <p:cNvPicPr/>
          <p:nvPr/>
        </p:nvPicPr>
        <p:blipFill>
          <a:blip r:embed="rId7"/>
          <a:stretch/>
        </p:blipFill>
        <p:spPr>
          <a:xfrm>
            <a:off x="6324480" y="0"/>
            <a:ext cx="2590920" cy="1782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Resources: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hcs.ohio-state.edu/hcs300/glossary/glossary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classroom.jc-schools.net/sci-units/plants-animals.ht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urbanext.uiuc.edu/gpe/case1/fac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firstschoolyears.com/science/worksheets/plants/plants.html  (go to label the plant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naturegrid.org.uk/plant/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hhmi.org/coolscience/vegquiz/plantparts.htm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4" descr="fern"/>
          <p:cNvPicPr/>
          <p:nvPr/>
        </p:nvPicPr>
        <p:blipFill>
          <a:blip r:embed="rId1"/>
          <a:stretch/>
        </p:blipFill>
        <p:spPr>
          <a:xfrm>
            <a:off x="6324480" y="0"/>
            <a:ext cx="2590920" cy="1782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The student will learn: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o identify the basic  parts of a plan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5" descr="teacherexplain"/>
          <p:cNvPicPr/>
          <p:nvPr/>
        </p:nvPicPr>
        <p:blipFill>
          <a:blip r:embed="rId1"/>
          <a:stretch/>
        </p:blipFill>
        <p:spPr>
          <a:xfrm>
            <a:off x="3124080" y="2971800"/>
            <a:ext cx="4876920" cy="34624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The Stem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lds up the plant parts above the ground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has tiny tubes to transport water an nutrients to the plant’s parts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acti"/>
          <p:cNvPicPr/>
          <p:nvPr/>
        </p:nvPicPr>
        <p:blipFill>
          <a:blip r:embed="rId1"/>
          <a:stretch/>
        </p:blipFill>
        <p:spPr>
          <a:xfrm>
            <a:off x="7342200" y="1371600"/>
            <a:ext cx="1801800" cy="335268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Leave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Make food for plants which is sugar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Take in carbon dioxide through tiny openings in the leave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leaf1"/>
          <p:cNvPicPr/>
          <p:nvPr/>
        </p:nvPicPr>
        <p:blipFill>
          <a:blip r:embed="rId1"/>
          <a:stretch/>
        </p:blipFill>
        <p:spPr>
          <a:xfrm>
            <a:off x="3962520" y="304920"/>
            <a:ext cx="327636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leaf1"/>
          <p:cNvPicPr/>
          <p:nvPr/>
        </p:nvPicPr>
        <p:blipFill>
          <a:blip r:embed="rId2"/>
          <a:stretch/>
        </p:blipFill>
        <p:spPr>
          <a:xfrm>
            <a:off x="6858000" y="914400"/>
            <a:ext cx="1733400" cy="92376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Root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old the plant in the ground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ake in water and nutrients for the plant’s growth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roots"/>
          <p:cNvPicPr/>
          <p:nvPr/>
        </p:nvPicPr>
        <p:blipFill>
          <a:blip r:embed="rId1"/>
          <a:stretch/>
        </p:blipFill>
        <p:spPr>
          <a:xfrm>
            <a:off x="1371600" y="4724280"/>
            <a:ext cx="7086600" cy="20797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66"/>
                </a:solidFill>
                <a:latin typeface="Arial"/>
              </a:rPr>
              <a:t>Petals:</a:t>
            </a:r>
            <a:endParaRPr b="1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re the colored part of the plant 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roseorange"/>
          <p:cNvPicPr/>
          <p:nvPr/>
        </p:nvPicPr>
        <p:blipFill>
          <a:blip r:embed="rId1"/>
          <a:stretch/>
        </p:blipFill>
        <p:spPr>
          <a:xfrm>
            <a:off x="2895480" y="3200400"/>
            <a:ext cx="3581640" cy="336852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in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holds it in the ground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Roots</a:t>
            </a: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Let’s see what you learned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hich part of the plant makes food for the plant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7:41:49Z</dcterms:created>
  <dc:creator>Jefferson County Tech Center</dc:creator>
  <dc:description/>
  <dc:language>en-US</dc:language>
  <cp:lastModifiedBy>student</cp:lastModifiedBy>
  <dcterms:modified xsi:type="dcterms:W3CDTF">2010-01-20T01:01:08Z</dcterms:modified>
  <cp:revision>3</cp:revision>
  <dc:subject/>
  <dc:title>Parts of a Plant</dc:title>
</cp:coreProperties>
</file>